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E40F-3229-4BBC-ABFA-3F74703D9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BC0C-C9FA-4E54-8300-5284A2640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C2EA-4C22-49C9-8D8F-BC65071F8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229C-ED8C-47CE-8275-5B5F3A4DB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E443-200F-44C5-A1D7-CD21866DD6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BF51-0679-48DB-8F7F-EA5DEF50E0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63B1-E8F1-4BD1-8AEA-86EC28722E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4E53-8D4D-41BA-995F-9AE166F2A0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ACAF-70B5-4A34-BDAD-014BF59C6C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4D0C8-5240-420C-A151-ABCBB3ADEF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1B50-A7EC-4D2A-8017-D9B4C65EB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9C8A-86ED-492A-A051-60F4920CA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9CEB-E271-4B3B-A4FF-D0365421CD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0F00-63BF-445D-956E-C821461BB1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045F-B3A6-48B6-9278-85DDD7CBCD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17BF-406E-4906-A15F-FEDA96815D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F803-EC42-4E95-8000-F710F7932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0C70-BACC-4873-8208-1E06F8908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A8F4-87D9-4EC8-B9AA-B5456DE59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43CE-C597-4DA3-BF3A-1B4AA1F88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C959-74C5-435F-8957-84198582D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234E-ABEB-4636-8545-E3A24F313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FE6D-DB97-46AD-9E46-293AC9CED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62E6-2D64-4651-B475-07F879150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5440" cy="6856560"/>
            <a:chOff x="0" y="0"/>
            <a:chExt cx="2665440" cy="685656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003a3a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840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933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81CA49-FC55-4E05-85FC-BA0FA4663B6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1AB1F6-ED20-4821-B4CF-3EDAB3BE92BC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1371600"/>
            <a:ext cx="7620120" cy="2057400"/>
          </a:xfrm>
          <a:prstGeom prst="rect">
            <a:avLst/>
          </a:prstGeom>
          <a:solidFill>
            <a:srgbClr val="00808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Тема:Основи бухгалтерської звітності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429000"/>
            <a:ext cx="6400800" cy="1447920"/>
          </a:xfrm>
          <a:prstGeom prst="rect">
            <a:avLst/>
          </a:prstGeom>
          <a:gradFill rotWithShape="0">
            <a:gsLst>
              <a:gs pos="0">
                <a:srgbClr val="eefdf9"/>
              </a:gs>
              <a:gs pos="100000">
                <a:srgbClr val="98f1d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e6a52"/>
                </a:solidFill>
                <a:latin typeface="Arial"/>
              </a:rPr>
              <a:t>1.Види та значення звітнос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e6a52"/>
                </a:solidFill>
                <a:latin typeface="Arial"/>
              </a:rPr>
              <a:t>2.Вимоги  до фінансової звітност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e6a52"/>
                </a:solidFill>
                <a:latin typeface="Arial"/>
              </a:rPr>
              <a:t>3.Класифікація звітност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2160" y="96840"/>
            <a:ext cx="6426000" cy="1244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1292400"/>
            <a:ext cx="7089840" cy="53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640080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41440" y="304920"/>
            <a:ext cx="66740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92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0" y="384120"/>
            <a:ext cx="6705720" cy="61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2160" y="450720"/>
            <a:ext cx="6437160" cy="610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62920" y="4894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432160" y="438120"/>
            <a:ext cx="6406920" cy="56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6800" y="304920"/>
            <a:ext cx="6967440" cy="67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2160" y="384120"/>
            <a:ext cx="6413400" cy="6168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-4005360" y="319896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 фінансової звітност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2160" y="225360"/>
            <a:ext cx="6578640" cy="1609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438280" y="1908000"/>
            <a:ext cx="6400800" cy="479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2133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9080" y="42840"/>
            <a:ext cx="6029280" cy="822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38280" y="1295280"/>
            <a:ext cx="2743200" cy="9144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819520"/>
            <a:ext cx="2743200" cy="53316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657600"/>
            <a:ext cx="2743200" cy="7621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4648320"/>
            <a:ext cx="2743200" cy="4572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334120"/>
            <a:ext cx="2743200" cy="53316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6248520"/>
            <a:ext cx="2743200" cy="4572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129528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 змістом і джерелами форм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2819520"/>
            <a:ext cx="266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 терміном под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657600"/>
            <a:ext cx="274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 ступенем уза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альнення інформ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4648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 періодом ч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5334120"/>
            <a:ext cx="2743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 місцем використ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63244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 способом под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6080" y="68580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татистич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Фінанс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14479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датк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7160" y="182880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пеціаль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360" y="220968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правлін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259092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рмати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297180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к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05360" y="335268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ервин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37339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онсолідов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11480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вед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81480" y="915480"/>
            <a:ext cx="15242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181480" y="1297080"/>
            <a:ext cx="15242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1676520"/>
            <a:ext cx="15242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1828800"/>
            <a:ext cx="15242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1828800"/>
            <a:ext cx="15242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181480" y="2820600"/>
            <a:ext cx="15242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3048120"/>
            <a:ext cx="15242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81480" y="3583080"/>
            <a:ext cx="15242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181480" y="3963960"/>
            <a:ext cx="1524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038480"/>
            <a:ext cx="1524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7160" y="487692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іч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449568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роміж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181480" y="4725720"/>
            <a:ext cx="15242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4876920"/>
            <a:ext cx="15242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07520" y="5181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нутріш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7160" y="556272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овніш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5562720"/>
            <a:ext cx="15242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181480" y="5411520"/>
            <a:ext cx="15242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58672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ш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15080" y="6172200"/>
            <a:ext cx="15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лектрон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6461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дана власнору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6400800"/>
            <a:ext cx="1524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6400800"/>
            <a:ext cx="15242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181480" y="6097680"/>
            <a:ext cx="15242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nodeType="clickEffect" fill="hold">
                      <p:stCondLst>
                        <p:cond delay="0"/>
                      </p:stCondLst>
                      <p:childTnLst>
                        <p:par>
                          <p:cTn id="2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14520" y="914400"/>
            <a:ext cx="651024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2160" y="212760"/>
            <a:ext cx="6413400" cy="1450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419200" y="1371600"/>
            <a:ext cx="643284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2160" y="225360"/>
            <a:ext cx="6578640" cy="1335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84440" y="1603440"/>
            <a:ext cx="6413400" cy="4492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772400" y="5197320"/>
            <a:ext cx="125748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2160" y="304920"/>
            <a:ext cx="64926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2160" y="208080"/>
            <a:ext cx="6413400" cy="1339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32160" y="1603440"/>
            <a:ext cx="6413400" cy="44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53360" y="152280"/>
            <a:ext cx="1695240" cy="1524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38280" y="682560"/>
            <a:ext cx="6553440" cy="595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2160" y="426960"/>
            <a:ext cx="6565680" cy="6205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571840" cy="179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62520" y="609480"/>
            <a:ext cx="3581280" cy="7621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1960" y="534960"/>
            <a:ext cx="289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Вимоги до звітнос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752480"/>
            <a:ext cx="2286000" cy="8384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819520"/>
            <a:ext cx="2286000" cy="8380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886200"/>
            <a:ext cx="2286000" cy="8380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5029200"/>
            <a:ext cx="2286000" cy="8380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752480"/>
            <a:ext cx="2286000" cy="8384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743200"/>
            <a:ext cx="2286000" cy="8380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733920"/>
            <a:ext cx="2286000" cy="8380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4724280"/>
            <a:ext cx="2286000" cy="8384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5715000"/>
            <a:ext cx="2286000" cy="8380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268880" y="13716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3716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39080" y="2057400"/>
            <a:ext cx="1800" cy="419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459280" y="624852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459280" y="510552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459280" y="41148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459280" y="3124080"/>
            <a:ext cx="38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459280" y="20574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2133720"/>
            <a:ext cx="1800" cy="335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1337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20040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2670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48640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182880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равов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аспек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2895480"/>
            <a:ext cx="2133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бов’язков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д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39625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ержа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егламентаці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5105520"/>
            <a:ext cx="220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ідповідаль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свідче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18288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Якіс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арактерис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8195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розуміл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38862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ореч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800600"/>
            <a:ext cx="236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остовір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7913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рівня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371600"/>
            <a:ext cx="1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143000"/>
            <a:ext cx="1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38280" y="378000"/>
            <a:ext cx="6686640" cy="628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21:26Z</dcterms:created>
  <dc:creator>one</dc:creator>
  <dc:description/>
  <dc:language>en-US</dc:language>
  <cp:lastModifiedBy>Ольга Іванівна</cp:lastModifiedBy>
  <dcterms:modified xsi:type="dcterms:W3CDTF">2019-10-23T09:33:33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